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11.gif" ContentType="image/gi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3B5-1001-408B-857A-367C05FC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177-CA8E-4832-9FAD-7F7F16BE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7C4-D600-4D35-84E4-A4FE6B29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185-DDDD-4B01-9AA0-80A76C65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F19-C58A-4DDC-B819-8D8F2A96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190-935A-4D82-A434-0B68B3EF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BAC-8F9A-4F56-BFBE-40951BEB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797-C20F-49D2-90D2-B8485C33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CA7-5738-4679-BBA4-FB9C11F9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417-10DC-48C1-90BB-1C06605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E82-4147-4DDE-9E1D-E1E6172B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278-AB26-4895-B702-9EA701F8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78D-FCA3-49B1-A050-4DCBEB581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5.xml"/><Relationship Id="rId3" Type="http://schemas.openxmlformats.org/officeDocument/2006/relationships/image" Target="../media/image8.wmf"/><Relationship Id="rId4" Type="http://schemas.openxmlformats.org/officeDocument/2006/relationships/slide" Target="slide6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" Target="slide4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8.wmf"/><Relationship Id="rId3" Type="http://schemas.openxmlformats.org/officeDocument/2006/relationships/slide" Target="slide9.xml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7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umpkins, Pumpkins, Pumpk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55627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 Mrs. Green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Mj02839210000[1]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971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ve A Great 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MMj02839220000[1]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809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ts of a Pump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09320" y="17521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Cj01999290000[1]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221148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1480" y="434340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f/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Cj03317870000[1]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2438280" cy="1898640"/>
          </a:xfrm>
          <a:prstGeom prst="rect">
            <a:avLst/>
          </a:prstGeom>
          <a:ln w="0">
            <a:noFill/>
          </a:ln>
        </p:spPr>
      </p:pic>
      <p:pic>
        <p:nvPicPr>
          <p:cNvPr id="49" name="MCj00788210000[1]" descr=""/>
          <p:cNvPicPr/>
          <p:nvPr/>
        </p:nvPicPr>
        <p:blipFill>
          <a:blip r:embed="rId3"/>
          <a:stretch/>
        </p:blipFill>
        <p:spPr>
          <a:xfrm>
            <a:off x="304920" y="3683160"/>
            <a:ext cx="4495680" cy="280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5320" y="22096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495680" y="48769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ts of a Pump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4594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Pj02020440000[1]" descr=""/>
          <p:cNvPicPr/>
          <p:nvPr/>
        </p:nvPicPr>
        <p:blipFill>
          <a:blip r:embed="rId1"/>
          <a:stretch/>
        </p:blipFill>
        <p:spPr>
          <a:xfrm>
            <a:off x="4343400" y="4114800"/>
            <a:ext cx="3270240" cy="218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3048120" y="480024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2120" y="17953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Cj03318270000[1]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812960" cy="1714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4191120" y="205704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tchup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rt is the 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CFD00877_0000[1]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581280" cy="318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3600" y="20574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809880" y="48002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Cj01975820000[1]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71800" y="4724280"/>
            <a:ext cx="851040" cy="862200"/>
          </a:xfrm>
          <a:prstGeom prst="rect">
            <a:avLst/>
          </a:prstGeom>
          <a:ln w="0">
            <a:noFill/>
          </a:ln>
        </p:spPr>
      </p:pic>
      <p:pic>
        <p:nvPicPr>
          <p:cNvPr id="65" name="MCj01975820000[1]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81480" y="1219320"/>
            <a:ext cx="752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Sorr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j030549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067280" cy="3340080"/>
          </a:xfrm>
          <a:prstGeom prst="rect">
            <a:avLst/>
          </a:prstGeom>
          <a:ln w="0">
            <a:noFill/>
          </a:ln>
        </p:spPr>
      </p:pic>
      <p:pic>
        <p:nvPicPr>
          <p:cNvPr id="68" name="BD10253_" descr=""/>
          <p:cNvPicPr/>
          <p:nvPr/>
        </p:nvPicPr>
        <p:blipFill>
          <a:blip r:embed="rId2"/>
          <a:stretch/>
        </p:blipFill>
        <p:spPr>
          <a:xfrm>
            <a:off x="6595920" y="2620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69" name="MMj03956970000[1]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4952880"/>
            <a:ext cx="1390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ckoo"/>
              </a:rPr>
              <a:t>Good Job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MMj02952270000[1]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5776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Your Tu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rt is the lea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Cj01975820000[1]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1143000"/>
            <a:ext cx="135432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MCj01975820000[1]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03560" cy="1319040"/>
          </a:xfrm>
          <a:prstGeom prst="rect">
            <a:avLst/>
          </a:prstGeom>
          <a:ln w="0">
            <a:noFill/>
          </a:ln>
        </p:spPr>
      </p:pic>
      <p:pic>
        <p:nvPicPr>
          <p:cNvPr id="76" name="MCj02510100000[1]" descr=""/>
          <p:cNvPicPr/>
          <p:nvPr/>
        </p:nvPicPr>
        <p:blipFill>
          <a:blip r:embed="rId5"/>
          <a:stretch/>
        </p:blipFill>
        <p:spPr>
          <a:xfrm>
            <a:off x="3809880" y="2895480"/>
            <a:ext cx="3962520" cy="263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3429000" y="487656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66920" y="1905120"/>
            <a:ext cx="83844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Sorr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j030549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067280" cy="3340080"/>
          </a:xfrm>
          <a:prstGeom prst="rect">
            <a:avLst/>
          </a:prstGeom>
          <a:ln w="0">
            <a:noFill/>
          </a:ln>
        </p:spPr>
      </p:pic>
      <p:pic>
        <p:nvPicPr>
          <p:cNvPr id="81" name="MMj03956970000[1]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62520" y="4952880"/>
            <a:ext cx="1390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ckoo"/>
              </a:rPr>
              <a:t>Good Job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MMj02952270000[1]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57760" cy="295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9360" y="5105520"/>
            <a:ext cx="52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are awes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27:20Z</dcterms:created>
  <dc:creator>Gateway</dc:creator>
  <dc:description/>
  <dc:language>en-US</dc:language>
  <cp:lastModifiedBy>Becky Hicks</cp:lastModifiedBy>
  <dcterms:modified xsi:type="dcterms:W3CDTF">2005-03-24T14:26:02Z</dcterms:modified>
  <cp:revision>3</cp:revision>
  <dc:subject/>
  <dc:title>Pumpkins, Pumpkins, Pumpkins</dc:title>
</cp:coreProperties>
</file>